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CB8-3C20-4ADD-A906-EA6C4189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0BB-51F0-48AC-90DA-7C517319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EB5-DDCA-43D4-B5BC-460D366A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824-3BC8-4A24-AC3E-C1B230DA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7E7-2596-4DD0-B65A-345EC7D2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1CF-5BF8-4E2D-8CB7-11E87FCC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353-DF5F-439D-95BC-26EE78D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9DA-8BD3-4FE0-8B7F-28ECD4C4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9C2-D485-412E-8884-7D3CF060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E02-BA7E-435D-868F-715FF4D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236-9878-48DF-94B1-F8099DB0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D0E-5A3F-4314-B563-612E69C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323-98A7-46ED-BEEF-10FE230AC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9.xml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7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slide19.xml"/><Relationship Id="rId28" Type="http://schemas.openxmlformats.org/officeDocument/2006/relationships/slide" Target=""/><Relationship Id="rId29" Type="http://schemas.openxmlformats.org/officeDocument/2006/relationships/slide" Target="slide20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slide3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a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plify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(x+1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4(x-2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7x+6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89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Carrie Underw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IPB Image"/>
          <p:cNvPicPr/>
          <p:nvPr/>
        </p:nvPicPr>
        <p:blipFill>
          <a:blip r:embed="rId2"/>
          <a:stretch/>
        </p:blipFill>
        <p:spPr>
          <a:xfrm>
            <a:off x="2895480" y="1295280"/>
            <a:ext cx="286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 members of a family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 to have their picture take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number of ways th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arrang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 is 50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772400" cy="4419720"/>
          </a:xfrm>
          <a:prstGeom prst="wedgeRectCallout">
            <a:avLst>
              <a:gd name="adj1" fmla="val -23490"/>
              <a:gd name="adj2" fmla="val 58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number of distinguish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utations using the letters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,989,6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Ruben Stud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 the number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 digit telephone numb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can be formed u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ondition that each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three digits cannot be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,290,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20 girls in a beau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geant.  A queen, a fir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nner-up, and a second runner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 are to be chosen. This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mber of different po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c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8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r and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at Id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d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2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1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Bo B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Bo Bice"/>
          <p:cNvPicPr/>
          <p:nvPr/>
        </p:nvPicPr>
        <p:blipFill>
          <a:blip r:embed="rId2"/>
          <a:stretch/>
        </p:blipFill>
        <p:spPr>
          <a:xfrm>
            <a:off x="2971800" y="1371600"/>
            <a:ext cx="2286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special at a diner offer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ice of one each of tw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tizers, four entre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five desserts.  This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mber of distinct meal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pos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number of 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ommittee of 9 people 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 selected from a gro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2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1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Kelly Clar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Kelly Clarkson"/>
          <p:cNvPicPr/>
          <p:nvPr/>
        </p:nvPicPr>
        <p:blipFill>
          <a:blip r:embed="rId2"/>
          <a:stretch/>
        </p:blipFill>
        <p:spPr>
          <a:xfrm>
            <a:off x="3581280" y="1447920"/>
            <a:ext cx="2000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way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ittee of two boy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girls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 formed from a group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boys and 12 gir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900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and (5x+2y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50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+60x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0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Sanjaya Malak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sanjaya_malakar.jpg"/>
          <p:cNvPicPr/>
          <p:nvPr/>
        </p:nvPicPr>
        <p:blipFill>
          <a:blip r:embed="rId2"/>
          <a:stretch/>
        </p:blipFill>
        <p:spPr>
          <a:xfrm>
            <a:off x="3048120" y="17524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uto license plate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two letters follow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y three digits.  This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mber of license plates pos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76,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4-02T12:58:21Z</dcterms:modified>
  <cp:revision>61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